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AA7D-7D3C-4C4C-A696-49D71821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4C36-5703-4FC3-A660-A5EA4EAF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C9D-D239-4D08-A3FA-044F080B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1BC8-8EFE-49B0-ABE2-BF267C74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046-3868-4308-8B06-85E12347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DA4B-5F2D-4E04-9A37-3BC91325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459-0A4F-4315-812C-B77D4852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B4C-24ED-4334-98DD-ACDB8CCB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6A2-33EE-44BC-86E5-8FDF7F4A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FC97-8D1C-4B73-93E9-0675D26C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67A6-7573-478B-8607-FA899CA6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434-982E-4BAA-8BB3-08523A9A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3F89-062E-4555-BB1B-4111EB596FE8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1017720" y="502200"/>
            <a:ext cx="59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GROUP NAME: Friend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MEMBERS: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Ötvös Giani, Jozsa Béla, Szabadi Erv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104120" y="2359440"/>
            <a:ext cx="657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The Dog, the Fox and the Coc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zövegdoboz 7"/>
          <p:cNvSpPr/>
          <p:nvPr/>
        </p:nvSpPr>
        <p:spPr>
          <a:xfrm>
            <a:off x="1290240" y="5286240"/>
            <a:ext cx="14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6360" y="6480"/>
            <a:ext cx="882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o-RO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Once upon a time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here were three animals: Bod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the d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which was corageous  and a good friend, the  Fox which was v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stute and a prideful Cock. The Coc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nd the Rooster were goo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Friend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and they di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everything togeth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Kép 2" descr="cockerel1.jpg"/>
          <p:cNvPicPr/>
          <p:nvPr/>
        </p:nvPicPr>
        <p:blipFill>
          <a:blip r:embed="rId1"/>
          <a:stretch/>
        </p:blipFill>
        <p:spPr>
          <a:xfrm>
            <a:off x="5072040" y="2732040"/>
            <a:ext cx="4071960" cy="4125960"/>
          </a:xfrm>
          <a:prstGeom prst="rect">
            <a:avLst/>
          </a:prstGeom>
          <a:ln w="0">
            <a:noFill/>
          </a:ln>
        </p:spPr>
      </p:pic>
      <p:pic>
        <p:nvPicPr>
          <p:cNvPr id="46" name="Kép 4" descr="buldog_alapaha.jpg"/>
          <p:cNvPicPr/>
          <p:nvPr/>
        </p:nvPicPr>
        <p:blipFill>
          <a:blip r:embed="rId2"/>
          <a:stretch/>
        </p:blipFill>
        <p:spPr>
          <a:xfrm>
            <a:off x="214200" y="1500120"/>
            <a:ext cx="3929040" cy="4353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églalap 1"/>
          <p:cNvSpPr/>
          <p:nvPr/>
        </p:nvSpPr>
        <p:spPr>
          <a:xfrm>
            <a:off x="785880" y="42876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imals </a:t>
            </a:r>
            <a:r>
              <a:rPr b="1" lang="ro-RO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decided to go to see the world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ir own eyes. They left together and they </a:t>
            </a:r>
            <a:r>
              <a:rPr b="1" lang="ro-RO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marched ahead day and night .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evening they arrived in a fores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Kép 2" descr="world_e.jpg"/>
          <p:cNvPicPr/>
          <p:nvPr/>
        </p:nvPicPr>
        <p:blipFill>
          <a:blip r:embed="rId1"/>
          <a:stretch/>
        </p:blipFill>
        <p:spPr>
          <a:xfrm>
            <a:off x="714240" y="1905120"/>
            <a:ext cx="7875720" cy="3360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églalap 1"/>
          <p:cNvSpPr/>
          <p:nvPr/>
        </p:nvSpPr>
        <p:spPr>
          <a:xfrm>
            <a:off x="714240" y="71424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od belonged to an astute and mean Fox. The fox was very hungry and saw the animals approach. The Fox wanted to eat the Roo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Kép 3" descr="vulpea-macesul.jpg"/>
          <p:cNvPicPr/>
          <p:nvPr/>
        </p:nvPicPr>
        <p:blipFill>
          <a:blip r:embed="rId1"/>
          <a:stretch/>
        </p:blipFill>
        <p:spPr>
          <a:xfrm>
            <a:off x="2357280" y="2500200"/>
            <a:ext cx="4714920" cy="4243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églalap 1"/>
          <p:cNvSpPr/>
          <p:nvPr/>
        </p:nvSpPr>
        <p:spPr>
          <a:xfrm>
            <a:off x="500040" y="1357200"/>
            <a:ext cx="842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he Fox approached the Cock slowly, because he didn’t wa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odri to see him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When he was close enaugh, the poor Coc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observed the hunter and </a:t>
            </a:r>
            <a:r>
              <a:rPr b="1" lang="ro-RO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suddenly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it </a:t>
            </a:r>
            <a:r>
              <a:rPr b="1" lang="ro-RO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fell in a deep state of fe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He was so </a:t>
            </a:r>
            <a:r>
              <a:rPr b="1" lang="ro-RO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frightened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that he couldn’t mov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515160" y="3858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églalap 1"/>
          <p:cNvSpPr/>
          <p:nvPr/>
        </p:nvSpPr>
        <p:spPr>
          <a:xfrm>
            <a:off x="500040" y="43578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odri, the dog, was corageous and attentif. He ,too, ob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e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rv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he Fox. The dog started to bark and </a:t>
            </a:r>
            <a:r>
              <a:rPr b="1" lang="ro-RO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scared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the hungry Fox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he dog became the savoiur of the Rooster. </a:t>
            </a:r>
            <a:r>
              <a:rPr b="1" lang="ro-RO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Things were not </a:t>
            </a:r>
            <a:r>
              <a:rPr b="1" lang="en-US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 </a:t>
            </a:r>
            <a:r>
              <a:rPr b="1" lang="ro-RO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so bad as they seem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he dog and the Rooster </a:t>
            </a:r>
            <a:r>
              <a:rPr b="1" lang="ro-RO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lived happily ever after</a:t>
            </a:r>
            <a:r>
              <a:rPr b="1" lang="en-US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Kép 2" descr="7.jpg"/>
          <p:cNvPicPr/>
          <p:nvPr/>
        </p:nvPicPr>
        <p:blipFill>
          <a:blip r:embed="rId1"/>
          <a:stretch/>
        </p:blipFill>
        <p:spPr>
          <a:xfrm>
            <a:off x="3143160" y="0"/>
            <a:ext cx="2428920" cy="4429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Kép 1" descr="1.jpg"/>
          <p:cNvPicPr/>
          <p:nvPr/>
        </p:nvPicPr>
        <p:blipFill>
          <a:blip r:embed="rId1"/>
          <a:stretch/>
        </p:blipFill>
        <p:spPr>
          <a:xfrm>
            <a:off x="593640" y="642960"/>
            <a:ext cx="7907400" cy="553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églalap 1" descr=""/>
          <p:cNvPicPr/>
          <p:nvPr/>
        </p:nvPicPr>
        <p:blipFill>
          <a:blip r:embed="rId1"/>
          <a:stretch/>
        </p:blipFill>
        <p:spPr>
          <a:xfrm>
            <a:off x="281160" y="4181400"/>
            <a:ext cx="8869320" cy="1103400"/>
          </a:xfrm>
          <a:prstGeom prst="rect">
            <a:avLst/>
          </a:prstGeom>
          <a:ln w="0">
            <a:noFill/>
          </a:ln>
        </p:spPr>
      </p:pic>
      <p:pic>
        <p:nvPicPr>
          <p:cNvPr id="57" name="Kép 2" descr="P1010341.JPG"/>
          <p:cNvPicPr/>
          <p:nvPr/>
        </p:nvPicPr>
        <p:blipFill>
          <a:blip r:embed="rId2"/>
          <a:stretch/>
        </p:blipFill>
        <p:spPr>
          <a:xfrm>
            <a:off x="0" y="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58" name="Kép 4" descr="P1010343.JPG"/>
          <p:cNvPicPr/>
          <p:nvPr/>
        </p:nvPicPr>
        <p:blipFill>
          <a:blip r:embed="rId3"/>
          <a:stretch/>
        </p:blipFill>
        <p:spPr>
          <a:xfrm>
            <a:off x="4429080" y="0"/>
            <a:ext cx="4429080" cy="3143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20:23:39Z</dcterms:created>
  <dc:creator>abc</dc:creator>
  <dc:description/>
  <dc:language>en-US</dc:language>
  <cp:lastModifiedBy>abc</cp:lastModifiedBy>
  <dcterms:modified xsi:type="dcterms:W3CDTF">2010-02-23T21:03:55Z</dcterms:modified>
  <cp:revision>5</cp:revision>
  <dc:subject/>
  <dc:title>1. dia</dc:title>
</cp:coreProperties>
</file>